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934-7F36-45A1-87B7-AF9EC682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4BA-562D-44F2-A6C0-E123B683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6B1-2327-4997-9C84-0AF85376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82D-DFB2-40F2-8ECD-4D540CCC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160-9F6A-4BC3-BA9A-858EAF43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E27-1B2A-4D08-A4C8-E61856EC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5DE-3866-460E-8989-F16081B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3B2-50B8-4AED-8B1F-13E5B2F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C54-53CE-41EC-8704-49C0C91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498-EC09-4BD6-825A-1E3D46E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ABB-279D-4985-9A28-254764B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539-FC53-47C8-9CC4-82C1E53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B1C1-6CF3-4E17-8DBB-E526D91F3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y Favorite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gsrne.org/fundraisers/2008auction/auction.pics.2008/Toy%20Box2.JPG"/>
          <p:cNvPicPr/>
          <p:nvPr/>
        </p:nvPicPr>
        <p:blipFill>
          <a:blip r:embed="rId1"/>
          <a:srcRect l="0" t="15181" r="0" b="6620"/>
          <a:stretch/>
        </p:blipFill>
        <p:spPr>
          <a:xfrm>
            <a:off x="762120" y="1192320"/>
            <a:ext cx="3657600" cy="28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www.solarinc.org/gallery/photos/Clanthia-Archive/roleplaying1.jpg"/>
          <p:cNvPicPr/>
          <p:nvPr/>
        </p:nvPicPr>
        <p:blipFill>
          <a:blip r:embed="rId2"/>
          <a:stretch/>
        </p:blipFill>
        <p:spPr>
          <a:xfrm>
            <a:off x="4808520" y="1192320"/>
            <a:ext cx="3591000" cy="43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t0.gstatic.com/images?q=tbn:ANd9GcTzKzlLzbkhgvMBIlGImENWtkpXn9isADWNiGwISSaHd1I_sYY0&amp;t=1"/>
          <p:cNvPicPr/>
          <p:nvPr/>
        </p:nvPicPr>
        <p:blipFill>
          <a:blip r:embed="rId3"/>
          <a:srcRect l="0" t="9417" r="0" b="0"/>
          <a:stretch/>
        </p:blipFill>
        <p:spPr>
          <a:xfrm>
            <a:off x="1295280" y="4330800"/>
            <a:ext cx="3657600" cy="215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562720" y="571500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LC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rense.com/general83/img1.jpg"/>
          <p:cNvPicPr/>
          <p:nvPr/>
        </p:nvPicPr>
        <p:blipFill>
          <a:blip r:embed="rId1"/>
          <a:srcRect l="9528" t="-5694" r="5118" b="11670"/>
          <a:stretch/>
        </p:blipFill>
        <p:spPr>
          <a:xfrm>
            <a:off x="-14400" y="-533520"/>
            <a:ext cx="9296640" cy="7648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447920" y="380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ODAY’S DEMONST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 rot="21220200">
            <a:off x="23040" y="3176640"/>
            <a:ext cx="15778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bec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 rot="1425600">
            <a:off x="1641600" y="3366000"/>
            <a:ext cx="157824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ina Hart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0800">
            <a:off x="3340080" y="3048120"/>
            <a:ext cx="227808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teven Christe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670720" y="3460680"/>
            <a:ext cx="21049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rius Pfe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253200">
            <a:off x="7848720" y="3460680"/>
            <a:ext cx="14335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6:17:42Z</dcterms:created>
  <dc:creator>Dr. Kristine B. Hartney</dc:creator>
  <dc:description/>
  <dc:language>en-US</dc:language>
  <cp:lastModifiedBy>Dr. Kristine B. Hartney</cp:lastModifiedBy>
  <dcterms:modified xsi:type="dcterms:W3CDTF">2011-03-13T07:25:08Z</dcterms:modified>
  <cp:revision>6</cp:revision>
  <dc:subject/>
  <dc:title>PowerPoint Presentation</dc:title>
</cp:coreProperties>
</file>